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A32-1FBF-4E61-B950-30D84BC8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A22-C016-430C-B45B-9F11A72F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F049F-54A8-42E2-8B78-A8F65AD2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8057F-C691-4361-837D-4AEB135F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2EE2F-57A2-4EB3-8F33-372D0844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C161C-F1B7-4633-A475-AE8E6CB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D62DA-3C2B-4D21-B89E-2274561A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CD7D1-E38E-49AF-A242-A41EA17B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E071A-D900-42FA-AD87-8A2DB11F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5375C-37BD-419D-8165-91D93272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677CB-BB9A-4B9A-A117-171ED0CB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4F0E7-A615-412F-B9FF-933B7238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66D-B30A-474A-A04F-E533D41D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5F9A4-60DD-4846-87B8-524C21CC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C03E6-4539-40AA-AF9F-01BA75D3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F7859-D5A8-4187-AEE0-9DA50653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ABA62-6974-4000-A687-DB4641B7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8E6F8-B1B1-4AEB-97D1-8276D34A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BC2C5-6AB9-4479-BEC1-6A9A2824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D378A-25F4-44AB-9179-C58BF68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0AABD-21A4-4B5A-91C0-E1053C1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6FE33-1ED9-4D2C-9EFA-A0982EC6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83C81-D5D2-4531-94A5-9B4A3FD7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303-F9B1-4608-B01C-1AE06029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567B2-EE4A-4C9A-96F7-11AF9FE2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B0B50-577A-4986-8435-826501CD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A54F3-1742-4C43-A503-A75DEA06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A58B6-EEEB-4174-BAAF-58367B67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56694-A18D-4080-A3F7-099E3940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1C7AD-ED9B-4E62-BD55-E0F99C49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AB547-6685-4D9D-B49A-FE3A701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7EF63-5C39-4ECA-BC92-A0AE4384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C83A0-8934-4A02-BFED-362484C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5492C-5473-4B40-91CD-0ABDAD36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203B-E605-492F-AEF7-3BB2EAD5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A9EEB-6824-4E14-8412-3D64F56D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10510-3B0A-4D6D-9474-C016BE49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C0BC9-3608-482D-9B36-9CA1D0C3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A9EF1-B4E8-4937-BD55-82DAA795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7BEFB-A9C3-4E21-A758-91271A4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14586-ACF3-44B7-9271-F76ECDFE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F8D37-6A43-4113-BF0E-8E5F39C6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5A9A9-B219-4FF6-AC1B-55FD736A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791F1-C285-44C2-A0A2-978F6D8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CE096-9A20-4D94-A2FA-52159C3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6B47-A768-4A48-B070-34E81BB3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938B0-D1D4-403B-93C7-D7C215A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41DF2-A92D-4EA2-A505-B718B88C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7A2CB-BE43-4B6C-817F-3AA1DCDD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F0E62-3439-4E44-B405-EFF9B2AE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6CC0B-EFED-4909-9C42-3838E041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E34AA-4ACD-4570-BC24-3F33A5FE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0B98A-D14D-4B9B-92FE-3CD1FD18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57404-D72B-4076-B327-AC51B7B4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8C2FB-E983-40F8-AE2C-22161284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1F182-E54B-41E1-A17A-F2814795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8B7E-48BE-4DFF-B497-8600DCCA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7FAAC-F794-4489-A109-A4A70264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78753-6C0E-4EAF-A07B-5D2D1828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6EF39-861B-44D0-B66D-AFDC88BB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59CA0-7956-4415-831D-6DC4A007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59D33-BDAE-4D8E-9F1A-9CF3AD73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18B53-DF33-4D9E-94D3-D47283A1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7B85C-3912-4DB8-9FBF-CDCFC848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57F1D-C032-4215-958D-A981D640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4FC9C-4826-498B-B8DE-E6F2A236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6861F-F5F1-46CC-B51D-31259D71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3A6F-A9B5-4D13-9D31-8B4261D4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FE445-DF8E-4B2C-A59D-B116B782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9DF1B-B6B1-43AC-A89B-009722F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7EA1E-0E01-4325-BF68-6E7DD5D3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9B9E1-42F0-4352-B052-4FB9B225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5ECFF-2BF2-4E69-B8E7-E1B0786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9F7C8-F744-41FD-8DD4-806FBA2B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ADA79-9398-4B21-9524-FB9A5123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C65EB-E664-42BC-9E62-A14556C0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D9415-2C5C-48FA-A6C2-71938C47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13DBE-6DC1-4157-ACB3-42585F44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6EB4-16D9-492C-8FE1-90649047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36ED0-530D-4CC7-B339-D52F8A61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4E755-4B23-4DAE-A1CF-D643B216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363F7-9423-44EF-B733-2050CA83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BE609-A20E-4ADF-97AD-BA01D732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31EDF-0D57-4F80-B61C-93846EFE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87365-18F3-40DA-BFCD-5D9F906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AA28E-980E-434F-A9D6-6DDF9DB5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6CDA7-DBA1-4DBC-9FBA-1AC77071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DBAEE-1923-4ACF-8748-6085EAEB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3E22F-9777-483A-BF90-44932962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19A5-5814-4EA1-AFFC-4247E41E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F1194-242F-4D24-9501-0FEAA6D8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8A903-EB15-4B67-B5E8-138C3F974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34228-61B0-43FD-906E-0C7EF7E3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C73F48-E3AD-4C8C-A76A-1C4E88E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5CC67-E8A6-4B3F-B202-8F58E549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EDB7E-21B8-4690-9607-5C84D01E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3DBFD-317A-4F30-85CD-49D67A70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C4762-6DDF-4BBF-BB0E-0189B90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DACC4-1D40-4493-9E7D-7B377A7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3B3EA-F4AB-4B72-A916-38A7163B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0BC2-4BCF-457F-B5CB-F0429270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1B894-92CF-4AB6-98BA-FFD3120F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337FCA-0DD3-440E-A786-BEB8B631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09E06-411C-44F2-949D-61A73E38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9DF62-39C6-4B5C-9DC8-63935D06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809C8-1E96-4A3E-8DB9-005EC2B1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F5A8C9-06E5-4CAC-85CC-1669D159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0FC3D5-BD92-4B96-88A0-28267784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95848-5424-44AC-833F-C6465E72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0DCF8-B49D-43FF-80E8-CB613906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6DB34-EA99-4F7A-B0AE-E95FB6FF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E0E-6871-44BA-B83D-1A40F9CF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30D9-CCE0-4F39-98C5-58A22483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3FC57-4617-49D2-B704-03B62C3F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B0276-D258-41A9-AEEE-F71A5C09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890E2-80C4-461B-889A-C56DDB1A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6B4A9-60BA-4069-B97F-E39B37D7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88C23-7C70-4645-9D08-8F931E44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71AFE-7098-4FFA-8B34-5F1B1A15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86B15-80F0-4F2E-81EE-4AEC620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9BC856-8A85-4076-9AE4-64424294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AB124-1FA0-4C29-8AE8-1D0AF2CD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03367-FD93-4665-8D37-6214B9CF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3FB8-50E7-4076-98E3-E8D3F065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6CDCC4-6B62-480F-8325-C7D447CE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1BC065-8F5E-40EF-AF95-B741F6C3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51E97-2CC5-47B9-95F6-562A5CBD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1382AC-71D6-40F4-926F-4DEA024C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09CF23-5906-4DF2-A0B7-DDC4FA9F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6F55D-47F1-4C6B-88AC-03782148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AEB90-FFF5-4A2E-8C87-7223DF4C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A1B99-74CF-4ADA-AD87-BCF83777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15C0A9-A429-4533-B112-15CCF4BC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3E3FB2-0102-4A29-AA59-EF4B12A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F64E-96D9-4FDB-8F6D-0F538471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D903B0-68E3-4BBF-8FA1-A4CFD434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F1A44-6BA6-44B3-864B-76020F35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BABE6-99BE-4B9E-9136-D08B049C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EAA23-1E3D-4CD1-A571-8EA7ED78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FAF55B-932F-486C-9765-2D3AD76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0CD0B9-E9EC-4AF8-99B4-02DB885D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3A688-691E-4428-891E-D6A63D4F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575EDF-E465-450D-BE2E-FDC52B59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5E64D-EFF4-4C09-9AB5-CD142DC3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F33B4-6D61-43A0-9EFF-979E0969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4B0F-9E01-452E-9613-7D592323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279A9D-621E-48FF-BA3D-C5D3F7F0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ED8D26-9943-4F46-ADED-E8BFF289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F3842C-6C1E-4928-991F-F3D8FB07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47F48C-25D2-48A6-A4F4-8DD35DA6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1DD59-3C79-484E-B2B4-E8D655D7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4F39A6-DAF2-422A-A3DB-87FC85C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12BF78-1F17-4B60-A3D4-63828D28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C21503-8D97-4268-8D71-BF881BD7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95591-208F-49E8-812C-DC836416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4A9711-FDCF-487C-8D6A-161C6467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AB86-C9FE-4BC6-AE12-2BB9684B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772EF1-6A3C-4D98-B630-AAB86056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633DDB-263D-4243-B581-9EC3DC7D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861C8B-35C8-4D40-8BC1-7EC9CFC8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B3804-4284-458B-B0CB-5F7D6BD1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2C8E3-7985-4FEE-A2CA-C11A3327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B4285-1DEB-4E2A-8F75-B5114ACF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BE3ED-F717-4998-97C5-E93817C0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0273E-F302-414F-874C-7B0A9B79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BA8C4-6DA0-46DA-AA3B-8578CB96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55151B-CA2C-49D6-8671-651BABBA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07BE54-7D28-4C87-AD18-D24F61F7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C1F3B-902E-4640-80E1-C9A60BAA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FA061-813E-43E5-AE46-16040240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CE69-4F80-41F1-B56C-FD1232B1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2AB74-C0ED-45AD-AB3D-074022FE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5F5F4-4403-4557-A328-C109F063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DFCCD-7208-4087-AAD8-E96EB7FB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EEDA-EEC5-49B0-8B48-B647748D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5E87-0B65-44BD-8B80-852A5FD4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52DE-613F-4C7C-ADC7-63B82388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5FF8-0A87-414F-BA44-40FF467B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D0BAF-BD5A-48EE-A79F-54B1158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41A6-AC9C-47CD-9560-00253DA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44271-C505-4288-8EF9-8B388571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F266E-1185-4968-989C-E1C9643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1E758-02B8-4985-BCB4-376F1574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12EE-D267-4439-B107-C78E89C0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4E76-56F8-49D4-A2C2-EA7B99AA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E84-E397-479F-9A7A-299DC46F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36C6-2F8B-4B1E-BD99-F0823F05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3BF6E-4729-4F29-AA31-5807A26E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030C-CD8D-4C25-96ED-286753F3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8232-DA01-48ED-A4AB-343481EB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8DCC5-EDD7-43A6-8C8E-34897AD0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501B2-0690-4E2A-B211-460158AD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DEBE1-6F90-4DC7-8424-9DE4531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25C7-FB30-42C3-BDDC-C38C5CD0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1AA6-063E-4FB1-9D43-9D839D2D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A8D7-FAB9-4D0F-AA6E-28CC845F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5A5-891E-48F9-A847-B20A285F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E653-5098-499A-8550-AEC20A32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3A7B-0F5D-4741-B0DD-DD870B70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3DF4E-D120-4661-9F9B-71E535BC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57BBB-FB14-4D8C-A5DC-62217A64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802B-B4FC-4E02-8530-4EB15ACA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C4EB9-9CE8-48E7-BFEE-72D71438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FEFAE-A3DF-4C52-A205-BB5FF47D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82CEF-40F7-4859-B8B7-AFC742E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29AF1-1B4E-46CB-B6D0-EDFD7342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B61BE-401A-4572-8E36-8B7F4E0E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471-9FA3-49B1-8711-7EC6361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B2FF-97E8-4A18-BF4C-7E4496E5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DBA6D-34A6-48B3-882D-158084DE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E2792-E1F1-4A47-A845-6307FB56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E2692-DC5B-43D2-A7A9-F3154832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CCBF-80F1-443B-A111-924DD6CE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64282-8888-42CD-89AD-3E4CED06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A0C1-910D-4548-9EDD-E1F03571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A0361-A897-4A43-B810-8A856C75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FA9C5-2775-46E7-B30A-EE94262C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FCC65-2A03-4848-BEA7-FFF36506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3D5-1F54-48F0-990C-C57B0F74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EE905-E10D-4D99-BE09-25C42F2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4371-1B24-4344-930B-2C6E0DB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3300-19E9-43C7-B238-9FE00B10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06042-9D74-421A-A721-223979CE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8B5A8-A1C6-40EC-A637-DD436F48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A51BA-BD3A-4E6E-B33B-6F81BB31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21903-89F4-4D65-88E9-A3392C2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42B06-FE98-44B6-9DF4-06BD8A0C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2BFBA-C512-455C-8BC2-8C94F8B3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FDDB9-1B75-429D-AFF8-5C654AA5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7CA-2739-481D-8D2D-70D5F46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4C898-88DB-40D1-86B3-5C241E7D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376B5-5489-4B65-BD42-09950517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E4A88-7EEF-4C1C-9FCB-A8023E84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DFEAE-5735-44A1-BFC0-1164FFF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4406-2AA1-429C-B6BE-ABAE0E08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0C353-7563-41DA-85AF-C64603C7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A2CD1-2DDD-4ADF-97AD-CB7B5691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12967-831E-4188-B722-7D8FF405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0A965-19AC-4E7D-87C4-8EE9FAEE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BD75-776D-44F5-9475-09B6127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54FD-2719-484F-AA3D-A34CE62079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200A-8F82-4011-8D2D-1963AF2E1B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E658-12E9-4FA3-98DD-C84D4B2EEB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1520-25C4-42C2-A711-56FE87345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B6F8-33EA-44CF-A558-021AA8422B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3D84-666B-4946-A16C-C73C162060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0135-9F23-4259-98A2-CB2A64EE38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A1E3-0324-4C66-ADBD-FEF3B80B5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861-C5E6-4CD3-B2B9-F00EEF808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1B14-E004-4422-AACA-CC8A523957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2540-82EA-494B-8CDA-6B25AF190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16E4-DDC3-409D-8A4F-AEA74D9E07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4123-BE55-4FBC-91DA-B4B56466A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D30-01AF-403D-8D1D-0D26A2B5A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591-FD8C-455F-9FB7-0F633350A5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46A7-A9DD-45B7-B88C-A610B5CA8A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F133-FAA1-4464-8EF4-BFBD4FDE0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45EE-6280-4F9A-A1DB-B537314EDA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3346-D774-4AC3-97EE-F6375BCF3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CF0C-B5A1-4AA4-A48E-D7E6534CBC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3DEB-527A-431C-9F99-72B232F693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518-DCC7-47C1-8791-250951B98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E4E2-121F-49F8-9AEC-369ADB5E1C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233D-14EB-48E3-BF09-9567E4D8DF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437F-ACDC-48F8-B042-1E31FEB8C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F3A9-BC83-4D40-8EA1-700EC0F859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0C34-EBC6-4CB1-8CFF-51BCF84D2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1E1-A4ED-4BCC-9FC5-BD1CCDAC9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68B0-32A6-4EA7-9693-06DC01B3B3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A5E7-B881-47F4-AD40-E3B106A81B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32AC-30AE-4E07-A5F8-DE7307A8D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DD5-D00D-4791-80E0-E671A430E6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1456-8FBD-43A8-B659-B0E38207B8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1265-2F23-4FC8-80E1-838F9827AB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427C-74D9-42E2-8740-320F340CA9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5226-299B-43F1-9B1B-DBC1C35B2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8FA7-7675-4B45-876D-DBD6890919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C116-609B-498E-91A9-A04B97B52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A88A-D674-4BA7-B35D-EC3BFBF6E5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928800" y="2976480"/>
            <a:ext cx="7286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83" name="组合 13316"/>
          <p:cNvGrpSpPr/>
          <p:nvPr/>
        </p:nvGrpSpPr>
        <p:grpSpPr>
          <a:xfrm>
            <a:off x="-7920" y="981000"/>
            <a:ext cx="9134280" cy="4753080"/>
            <a:chOff x="-7920" y="981000"/>
            <a:chExt cx="9134280" cy="4753080"/>
          </a:xfrm>
        </p:grpSpPr>
        <p:pic>
          <p:nvPicPr>
            <p:cNvPr id="1084" name="图片 13314" descr=""/>
            <p:cNvPicPr/>
            <p:nvPr/>
          </p:nvPicPr>
          <p:blipFill>
            <a:blip r:embed="rId1"/>
            <a:stretch/>
          </p:blipFill>
          <p:spPr>
            <a:xfrm>
              <a:off x="-7920" y="1562040"/>
              <a:ext cx="9134280" cy="41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5" name="图片 13315" descr=""/>
            <p:cNvPicPr/>
            <p:nvPr/>
          </p:nvPicPr>
          <p:blipFill>
            <a:blip r:embed="rId2"/>
            <a:stretch/>
          </p:blipFill>
          <p:spPr>
            <a:xfrm>
              <a:off x="39600" y="981000"/>
              <a:ext cx="1219320" cy="39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8" name="图片 14337" descr=""/>
          <p:cNvPicPr/>
          <p:nvPr/>
        </p:nvPicPr>
        <p:blipFill>
          <a:blip r:embed="rId1"/>
          <a:stretch/>
        </p:blipFill>
        <p:spPr>
          <a:xfrm>
            <a:off x="198360" y="2771640"/>
            <a:ext cx="869472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22529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324560" cy="3705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780000" y="3276720"/>
            <a:ext cx="3097080" cy="449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2700360" y="4056120"/>
            <a:ext cx="309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9" name="组合 21507"/>
          <p:cNvGrpSpPr/>
          <p:nvPr/>
        </p:nvGrpSpPr>
        <p:grpSpPr>
          <a:xfrm>
            <a:off x="900000" y="2422440"/>
            <a:ext cx="7432920" cy="1438200"/>
            <a:chOff x="900000" y="2422440"/>
            <a:chExt cx="7432920" cy="1438200"/>
          </a:xfrm>
        </p:grpSpPr>
        <p:pic>
          <p:nvPicPr>
            <p:cNvPr id="1030" name="图片 21505" descr=""/>
            <p:cNvPicPr/>
            <p:nvPr/>
          </p:nvPicPr>
          <p:blipFill>
            <a:blip r:embed="rId1"/>
            <a:stretch/>
          </p:blipFill>
          <p:spPr>
            <a:xfrm>
              <a:off x="900000" y="2422440"/>
              <a:ext cx="3743280" cy="14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图片 21506" descr=""/>
            <p:cNvPicPr/>
            <p:nvPr/>
          </p:nvPicPr>
          <p:blipFill>
            <a:blip r:embed="rId2"/>
            <a:stretch/>
          </p:blipFill>
          <p:spPr>
            <a:xfrm>
              <a:off x="4932360" y="2501640"/>
              <a:ext cx="3400560" cy="90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2050920" y="2565360"/>
            <a:ext cx="223380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5867280" y="2577960"/>
            <a:ext cx="223380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2340000" y="3284640"/>
            <a:ext cx="2233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37" name="组合 20484"/>
          <p:cNvGrpSpPr/>
          <p:nvPr/>
        </p:nvGrpSpPr>
        <p:grpSpPr>
          <a:xfrm>
            <a:off x="1231920" y="1589040"/>
            <a:ext cx="5572080" cy="3352320"/>
            <a:chOff x="1231920" y="1589040"/>
            <a:chExt cx="5572080" cy="3352320"/>
          </a:xfrm>
        </p:grpSpPr>
        <p:pic>
          <p:nvPicPr>
            <p:cNvPr id="1038" name="图片 20481" descr=""/>
            <p:cNvPicPr/>
            <p:nvPr/>
          </p:nvPicPr>
          <p:blipFill>
            <a:blip r:embed="rId1"/>
            <a:stretch/>
          </p:blipFill>
          <p:spPr>
            <a:xfrm>
              <a:off x="1231920" y="1589040"/>
              <a:ext cx="557208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9" name="图片 20482" descr=""/>
            <p:cNvPicPr/>
            <p:nvPr/>
          </p:nvPicPr>
          <p:blipFill>
            <a:blip r:embed="rId2"/>
            <a:stretch/>
          </p:blipFill>
          <p:spPr>
            <a:xfrm>
              <a:off x="1303200" y="3171600"/>
              <a:ext cx="3743640" cy="79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图片 20483" descr=""/>
            <p:cNvPicPr/>
            <p:nvPr/>
          </p:nvPicPr>
          <p:blipFill>
            <a:blip r:embed="rId3"/>
            <a:stretch/>
          </p:blipFill>
          <p:spPr>
            <a:xfrm>
              <a:off x="1376280" y="4036680"/>
              <a:ext cx="3486240" cy="90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2771640" y="2336760"/>
            <a:ext cx="273708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2700360" y="3271680"/>
            <a:ext cx="27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2446200" y="4216320"/>
            <a:ext cx="273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8193" descr=""/>
          <p:cNvPicPr/>
          <p:nvPr/>
        </p:nvPicPr>
        <p:blipFill>
          <a:blip r:embed="rId1"/>
          <a:stretch/>
        </p:blipFill>
        <p:spPr>
          <a:xfrm>
            <a:off x="1457280" y="895320"/>
            <a:ext cx="6229440" cy="50673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3780000" y="242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4643280" y="3154320"/>
            <a:ext cx="201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4140360" y="3882960"/>
            <a:ext cx="259236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5"/>
          <a:stretch/>
        </p:blipFill>
        <p:spPr>
          <a:xfrm>
            <a:off x="3708360" y="4640400"/>
            <a:ext cx="431964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6"/>
          <a:stretch/>
        </p:blipFill>
        <p:spPr>
          <a:xfrm>
            <a:off x="3564000" y="5361120"/>
            <a:ext cx="431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9217" descr=""/>
          <p:cNvPicPr/>
          <p:nvPr/>
        </p:nvPicPr>
        <p:blipFill>
          <a:blip r:embed="rId1"/>
          <a:stretch/>
        </p:blipFill>
        <p:spPr>
          <a:xfrm>
            <a:off x="2347920" y="1604880"/>
            <a:ext cx="4448160" cy="36482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3924360" y="1679400"/>
            <a:ext cx="143964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5076720" y="243360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3924360" y="3154320"/>
            <a:ext cx="143964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4500720" y="3895560"/>
            <a:ext cx="143964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6"/>
          <a:stretch/>
        </p:blipFill>
        <p:spPr>
          <a:xfrm>
            <a:off x="4572000" y="4632480"/>
            <a:ext cx="14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2" name="图片 10241" descr=""/>
          <p:cNvPicPr/>
          <p:nvPr/>
        </p:nvPicPr>
        <p:blipFill>
          <a:blip r:embed="rId1"/>
          <a:stretch/>
        </p:blipFill>
        <p:spPr>
          <a:xfrm>
            <a:off x="1924200" y="1924200"/>
            <a:ext cx="5295600" cy="3009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5364000" y="208296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3995640" y="281952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3780000" y="3573360"/>
            <a:ext cx="23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3924360" y="4292640"/>
            <a:ext cx="23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2289" descr=""/>
          <p:cNvPicPr/>
          <p:nvPr/>
        </p:nvPicPr>
        <p:blipFill>
          <a:blip r:embed="rId1"/>
          <a:stretch/>
        </p:blipFill>
        <p:spPr>
          <a:xfrm>
            <a:off x="1519200" y="2014560"/>
            <a:ext cx="6105600" cy="28288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5003640" y="2771640"/>
            <a:ext cx="23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5651640" y="3467160"/>
            <a:ext cx="23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4"/>
          <a:stretch/>
        </p:blipFill>
        <p:spPr>
          <a:xfrm>
            <a:off x="4716360" y="4221000"/>
            <a:ext cx="2376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1265" descr=""/>
          <p:cNvPicPr/>
          <p:nvPr/>
        </p:nvPicPr>
        <p:blipFill>
          <a:blip r:embed="rId1"/>
          <a:stretch/>
        </p:blipFill>
        <p:spPr>
          <a:xfrm>
            <a:off x="130320" y="2290680"/>
            <a:ext cx="8905680" cy="23860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2700360" y="249228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7716960" y="2479680"/>
            <a:ext cx="118908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3059280" y="3200400"/>
            <a:ext cx="208908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7954920" y="3192480"/>
            <a:ext cx="118908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6"/>
          <a:stretch/>
        </p:blipFill>
        <p:spPr>
          <a:xfrm>
            <a:off x="2411280" y="3886200"/>
            <a:ext cx="1189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6:2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